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75405-9E40-46AC-A7F0-2CEE4AF43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6A9B6-53B5-4390-8EF2-965204A5D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AC0A8-BA8E-491D-A93C-7F483ACF8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82AE0-4BBC-4213-938A-FD9447909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5B23A-D19A-4C5B-95BA-3148C884C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D1AAD-96FF-4CA2-A814-5AE195797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FA6AC-6173-4B04-A489-3747872FB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0E8D2-A73C-42BE-8620-0F4839658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12FE3-BFBC-48BC-BBC0-37B16564D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DE5B5-1BAD-458C-B940-1E52AEAA2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7EB6E-A1E7-49AD-BB3A-98AE3E8A4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E496D-D7A0-4F41-8E72-EB99785D1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B621-1811-4A20-8383-FCBA98E898DC}"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Employment Structures</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365720"/>
            <a:ext cx="6400800" cy="1272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Case Stud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mployment Structur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use the percentage of people working in each sector to help describe how developed a country 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called the </a:t>
            </a:r>
            <a:r>
              <a:rPr b="1" lang="en-US" sz="3200" spc="-1" strike="noStrike">
                <a:solidFill>
                  <a:srgbClr val="000000"/>
                </a:solidFill>
                <a:latin typeface="Calibri"/>
              </a:rPr>
              <a:t>employment structur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looking back through history you can also see how one single country has developed by looking at the changes in their employment struc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EDC’s Vs LEDC’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re developed a country becomes the more it will rely on secondary and, in particular, tertiary industri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ess developed country will be characterised by a greater percentage of the population in primary industries, usually farm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thiopia: LEDC</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mary:</a:t>
            </a:r>
            <a:r>
              <a:rPr b="0" lang="en-US" sz="3200" spc="-1" strike="noStrike">
                <a:solidFill>
                  <a:srgbClr val="000000"/>
                </a:solidFill>
                <a:latin typeface="Calibri"/>
              </a:rPr>
              <a:t> 88%</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ondary: </a:t>
            </a:r>
            <a:r>
              <a:rPr b="0" lang="en-US" sz="3200" spc="-1" strike="noStrike">
                <a:solidFill>
                  <a:srgbClr val="00000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rtiary:</a:t>
            </a:r>
            <a:r>
              <a:rPr b="0" lang="en-US" sz="3200" spc="-1" strike="noStrike">
                <a:solidFill>
                  <a:srgbClr val="000000"/>
                </a:solidFill>
                <a:latin typeface="Calibri"/>
              </a:rPr>
              <a:t> 1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Quaternary:</a:t>
            </a:r>
            <a:r>
              <a:rPr b="0" lang="en-US" sz="3200" spc="-1" strike="noStrike">
                <a:solidFill>
                  <a:srgbClr val="000000"/>
                </a:solidFill>
                <a:latin typeface="Calibri"/>
              </a:rPr>
              <a:t>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 Like?</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opia is a typical example of a developing country, in terms of its employment stru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ajority of the population work in the primary se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these are subsistence farmers, who basically grow enough for themselves and their family, but little mo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don't have a great deal, if any, left over to sell at the mark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y?</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opia has very little manufacturing industry, as it does not have the raw materials available, and lacks sufficient investment and technology to exploit the natural resources that it does ha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 work in the tertiary industry, primarily in the main cities, such as Addis Ababa, where there are hospitals, schools and other professional ser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der of the country has very poor access to education and health care due to this lack of people in the tertiary sect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United Kingdom: MEDC</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mary:</a:t>
            </a:r>
            <a:r>
              <a:rPr b="0" lang="en-US" sz="3200" spc="-1" strike="noStrike">
                <a:solidFill>
                  <a:srgbClr val="000000"/>
                </a:solidFill>
                <a:latin typeface="Calibri"/>
              </a:rPr>
              <a:t> 3%</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ondary: </a:t>
            </a:r>
            <a:r>
              <a:rPr b="0" lang="en-US" sz="3200" spc="-1" strike="noStrike">
                <a:solidFill>
                  <a:srgbClr val="000000"/>
                </a:solidFill>
                <a:latin typeface="Calibri"/>
              </a:rPr>
              <a:t>2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rtiary: </a:t>
            </a:r>
            <a:r>
              <a:rPr b="0" lang="en-US" sz="3200" spc="-1" strike="noStrike">
                <a:solidFill>
                  <a:srgbClr val="000000"/>
                </a:solidFill>
                <a:latin typeface="Calibri"/>
              </a:rPr>
              <a:t>7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Quaternary: </a:t>
            </a:r>
            <a:r>
              <a:rPr b="0" lang="en-US" sz="3200" spc="-1" strike="noStrike">
                <a:solidFill>
                  <a:srgbClr val="000000"/>
                </a:solidFill>
                <a:latin typeface="Calibri"/>
              </a:rPr>
              <a:t>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 Like?</a:t>
            </a:r>
            <a:endParaRPr b="0" lang="en-US" sz="4400" spc="-1" strike="noStrike">
              <a:solidFill>
                <a:srgbClr val="000000"/>
              </a:solidFill>
              <a:latin typeface="Calibri"/>
            </a:endParaRPr>
          </a:p>
        </p:txBody>
      </p:sp>
      <p:sp>
        <p:nvSpPr>
          <p:cNvPr id="56" name=""/>
          <p:cNvSpPr txBox="1"/>
          <p:nvPr/>
        </p:nvSpPr>
        <p:spPr>
          <a:xfrm>
            <a:off x="457200" y="1599840"/>
            <a:ext cx="82296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United Kingdom exhibits the employment structure of a well-developed country.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umber of people working in the primary sector has steadily decreased as mines have closed and technology has meant fewer people are requir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umber of people working in the secondary sector is still reasonably high, but has also been falling steadily as new, more efficient technology has again meant less people being needed.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y?</a:t>
            </a:r>
            <a:endParaRPr b="0" lang="en-US" sz="4400" spc="-1" strike="noStrike">
              <a:solidFill>
                <a:srgbClr val="000000"/>
              </a:solidFill>
              <a:latin typeface="Calibri"/>
            </a:endParaRPr>
          </a:p>
        </p:txBody>
      </p:sp>
      <p:sp>
        <p:nvSpPr>
          <p:cNvPr id="58"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massive growth has been in the tertiary sector, where huge numbers of jobs have been created.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s is not just in the traditional tertiary industries like teaching and health care, but also in the tourist industry, the computer industry and the financial industry.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re has also been the introduction of the quaternary sector, although this still takes up a very small percentage of the overall employment structure of the country. </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3:21:21Z</dcterms:created>
  <dc:creator>Dell_02</dc:creator>
  <dc:description/>
  <dc:language>en-US</dc:language>
  <cp:lastModifiedBy>Dell_02</cp:lastModifiedBy>
  <dcterms:modified xsi:type="dcterms:W3CDTF">2011-01-27T03:44:18Z</dcterms:modified>
  <cp:revision>2</cp:revision>
  <dc:subject/>
  <dc:title>Employment Structures</dc:title>
</cp:coreProperties>
</file>